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6EA-B08F-4640-B9C3-BDD5C5DB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592-9F95-4BEB-8F23-E1366591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6D27-4409-43F0-B834-81D5B0AE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12B-53A0-4CE1-BA56-D358EEDD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7F3-F2A2-4F47-9B77-A026EDCD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999-F03D-41B6-BE41-C9A51AC9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6CDA-A676-4F7C-AF55-EE9EC86C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AA5-D330-4C47-9797-C8C95955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52C-A30F-4B20-B085-39C4DA9A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F12-04A6-4C64-AECA-AF5CC6A4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38F6-FE9D-4F7A-A18F-710D361F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CF23-5756-43E7-9610-7B98037C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B636-B4CC-4290-B374-C820D6172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 rot="21094200">
            <a:off x="4495680" y="1599840"/>
            <a:ext cx="2381400" cy="1685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2187"/>
                </a:solidFill>
                <a:latin typeface="Arial"/>
              </a:rPr>
              <a:t>Spell it, Move it for childr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a32187"/>
                </a:solidFill>
                <a:latin typeface="Arial"/>
              </a:rPr>
              <a:t>w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14704" t="0" r="0" b="0"/>
          <a:stretch/>
        </p:blipFill>
        <p:spPr>
          <a:xfrm>
            <a:off x="609480" y="4343400"/>
            <a:ext cx="2210040" cy="1724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9520" y="47239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Princess Marray C. Cata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Eira Kristian G. P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Arial"/>
              </a:rPr>
              <a:t>Jennifer D. Rodas</a:t>
            </a:r>
            <a:r>
              <a:rPr b="0" lang="en-US" sz="2400" spc="-1" strike="noStrike">
                <a:solidFill>
                  <a:srgbClr val="cdc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819520" y="4343400"/>
            <a:ext cx="1752480" cy="1712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990720" y="2971800"/>
            <a:ext cx="33145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900"/>
                            </p:stCondLst>
                            <p:childTnLst>
                              <p:par>
                                <p:cTn id="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400"/>
                            </p:stCondLst>
                            <p:childTnLst>
                              <p:par>
                                <p:cTn id="2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900"/>
                            </p:stCondLst>
                            <p:childTnLst>
                              <p:par>
                                <p:cTn id="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400"/>
                            </p:stCondLst>
                            <p:childTnLst>
                              <p:par>
                                <p:cTn id="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900"/>
                            </p:stCondLst>
                            <p:childTnLst>
                              <p:par>
                                <p:cTn id="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85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72200" y="457200"/>
            <a:ext cx="2438280" cy="1550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99"/>
                </a:solidFill>
                <a:latin typeface="Arial"/>
              </a:rPr>
              <a:t>Unit summ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e purpose of this unit plan is for children with ADHD to learn how to spell a word using body mov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is will make them participate and give their undivided attention inside the class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his will be a great help for special educators in handling children with ADH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99"/>
                </a:solidFill>
                <a:latin typeface="Arial"/>
              </a:rPr>
              <a:t>Student Objectives/Learning Outco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he students will be able learn how to spell basic words at the same time will  be able to exercise their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he students are expected to learn more vocabulary words through spe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The students will be able to see the importance of learning in a happy and enjoyabl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1149400">
            <a:off x="4800240" y="1600200"/>
            <a:ext cx="3809880" cy="2209680"/>
          </a:xfrm>
          <a:prstGeom prst="rect">
            <a:avLst/>
          </a:prstGeom>
          <a:ln w="38160">
            <a:solidFill>
              <a:srgbClr val="ff6699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21151200">
            <a:off x="4800240" y="396252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Arial"/>
              </a:rPr>
              <a:t>Curriculum-Framing Ques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99"/>
                </a:solidFill>
                <a:latin typeface="Arial"/>
              </a:rPr>
              <a:t>Essential Ques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How can a child with ADHD learn how to spell a word in a unique way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99"/>
                </a:solidFill>
                <a:latin typeface="Arial"/>
              </a:rPr>
              <a:t>Unit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How can body movements help in making a child with ADHD participate in learning how to spel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What are the ways of teaching spelling for a child having ADH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Why is body movement essential for a child with ADH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6699"/>
                </a:solidFill>
                <a:latin typeface="Arial"/>
              </a:rPr>
              <a:t>Content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What are the types of words used in the spelli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Do these words contribute to the vocabulary words of the student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How will this spelling activity be meaningful to student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80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10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100"/>
                            </p:stCondLst>
                            <p:childTnLst>
                              <p:par>
                                <p:cTn id="2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400"/>
                            </p:stCondLst>
                            <p:childTnLst>
                              <p:par>
                                <p:cTn id="2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450"/>
                            </p:stCondLst>
                            <p:childTnLst>
                              <p:par>
                                <p:cTn id="2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50"/>
                            </p:stCondLst>
                            <p:childTnLst>
                              <p:par>
                                <p:cTn id="2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700"/>
                            </p:stCondLst>
                            <p:childTnLst>
                              <p:par>
                                <p:cTn id="2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950"/>
                            </p:stCondLst>
                            <p:childTnLst>
                              <p:par>
                                <p:cTn id="2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Arial"/>
              </a:rPr>
              <a:t>Instructional Procedu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The teacher will instruct the students to stand up and move around. Bringing movement to the lesson will bring excitement into learning basic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The following are alternate activities prepared for the stud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An instructional material which is useful for developing spelling skills is to be provided by the 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A film viewing that would help the students enhance their cognitive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Jump up and down while spelling out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Use a ball to bounce out the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Have a free dance while everyone spells the same word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ith the use of their body, they will spell out the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600"/>
                            </p:stCondLst>
                            <p:childTnLst>
                              <p:par>
                                <p:cTn id="2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300"/>
                            </p:stCondLst>
                            <p:childTnLst>
                              <p:par>
                                <p:cTn id="27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600"/>
                            </p:stCondLst>
                            <p:childTnLst>
                              <p:par>
                                <p:cTn id="2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100"/>
                            </p:stCondLst>
                            <p:childTnLst>
                              <p:par>
                                <p:cTn id="3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2250"/>
                            </p:stCondLst>
                            <p:childTnLst>
                              <p:par>
                                <p:cTn id="3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4150"/>
                            </p:stCondLst>
                            <p:childTnLst>
                              <p:par>
                                <p:cTn id="3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7200"/>
                            </p:stCondLst>
                            <p:childTnLst>
                              <p:par>
                                <p:cTn id="3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324480" y="3392640"/>
            <a:ext cx="2387880" cy="2533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Arial"/>
              </a:rPr>
              <a:t>Materials and Resources Required For the Uni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VD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el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</a:rPr>
              <a:t>Printed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Lectur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tory Books for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99"/>
                </a:solidFill>
                <a:latin typeface="Arial"/>
              </a:rPr>
              <a:t>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ictures/images to be spe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rcRect l="0" t="0" r="0" b="4171"/>
          <a:stretch/>
        </p:blipFill>
        <p:spPr>
          <a:xfrm>
            <a:off x="6324480" y="1600200"/>
            <a:ext cx="23623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400"/>
                            </p:stCondLst>
                            <p:childTnLst>
                              <p:par>
                                <p:cTn id="3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300"/>
                            </p:stCondLst>
                            <p:childTnLst>
                              <p:par>
                                <p:cTn id="3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250"/>
                            </p:stCondLst>
                            <p:childTnLst>
                              <p:par>
                                <p:cTn id="3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750"/>
                            </p:stCondLst>
                            <p:childTnLst>
                              <p:par>
                                <p:cTn id="4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50"/>
                            </p:stCondLst>
                            <p:childTnLst>
                              <p:par>
                                <p:cTn id="40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130120"/>
            <a:ext cx="883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4b02e"/>
                </a:solidFill>
                <a:latin typeface="Arial"/>
              </a:rPr>
              <a:t>Thank you for listening! </a:t>
            </a:r>
            <a:r>
              <a:rPr b="0" lang="en-US" sz="5400" spc="-1" strike="noStrike">
                <a:solidFill>
                  <a:srgbClr val="14b02e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Prin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6699ff"/>
                </a:solidFill>
                <a:latin typeface="Arial"/>
              </a:rPr>
              <a:t>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Wingdings"/>
                <a:ea typeface="Wingdings"/>
              </a:rPr>
              <a:t></a:t>
            </a:r>
            <a:r>
              <a:rPr b="0" lang="en-US" sz="3600" spc="-1" strike="noStrike">
                <a:solidFill>
                  <a:srgbClr val="ff6699"/>
                </a:solidFill>
                <a:latin typeface="Arial"/>
              </a:rPr>
              <a:t>Jenn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50"/>
                            </p:stCondLst>
                            <p:childTnLst>
                              <p:par>
                                <p:cTn id="4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50"/>
                            </p:stCondLst>
                            <p:childTnLst>
                              <p:par>
                                <p:cTn id="4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550"/>
                            </p:stCondLst>
                            <p:childTnLst>
                              <p:par>
                                <p:cTn id="4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9:23:42Z</dcterms:created>
  <dc:creator>nave1386</dc:creator>
  <dc:description/>
  <dc:language>en-US</dc:language>
  <cp:lastModifiedBy>nave1386</cp:lastModifiedBy>
  <dcterms:modified xsi:type="dcterms:W3CDTF">2010-09-23T20:13:03Z</dcterms:modified>
  <cp:revision>13</cp:revision>
  <dc:subject/>
  <dc:title>Spell it, Move it for children with</dc:title>
</cp:coreProperties>
</file>